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8.gif" ContentType="image/gif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10.wmf" ContentType="image/x-wmf"/>
  <Override PartName="/ppt/media/image11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618B-6E23-425A-AD4F-7F5B717BC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40DC-C8F8-44D9-A81E-54F9387E0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8509-A353-4577-A0B1-7DD4C9CE7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19220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9876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564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19220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9876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65FE-8A4A-4D96-986B-B8AF5843D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FF35D8-05FA-4E88-864A-411F46973B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3530EC-7651-4108-9BDB-B59065716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D6ADC7-E92D-4D07-9AEA-7F3DD418F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08B43C-3D19-47AE-AD33-708DC4532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DC8E63-CDE7-424A-AC87-5686B6BE1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837720" y="1442520"/>
            <a:ext cx="70866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AE24E2-AA5B-4C85-B182-3FCFE674F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D87580-8F54-4A02-A3E9-8463BB929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51D6-3804-4919-94F9-A1E54F0E2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B369E1-FDF4-414C-838F-C51E71AA1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57F89E-0870-462C-95FE-522FB7B69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83CC94-D2FA-4656-B7C3-7BE6F8198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38C7F4-AA35-460E-9433-66530246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19220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876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228564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419220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9876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1ED8DA-5CFF-462F-A61B-0F59011FDE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C63D-D2F2-48F0-AFC7-D26380981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EEA4-C77B-4B39-9A4C-304893892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2752-39B7-4048-9DE9-508258A5D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837720" y="1442520"/>
            <a:ext cx="70866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5E98-5DB7-4A41-8855-AF2198FBB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D72A-2244-4710-8797-0EB6FCAD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31B1-FB60-404D-A979-30DF9517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9664-8637-4398-B7BB-11EE85DA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564EC-5624-4AC8-A3FF-F42C3590189A}" type="slidenum">
              <a:rPr b="0" lang="es-MX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2584440" y="6477120"/>
            <a:ext cx="40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바탕"/>
              </a:rPr>
              <a:t>Magíster en gestión de operacione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DAAEB-0953-417F-9565-2A4D433BA77F}" type="slidenum">
              <a:rPr b="0" lang="es-MX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3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gi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26560" y="220464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바탕"/>
              </a:rPr>
              <a:t>Presentación tema de tesis:</a:t>
            </a:r>
            <a:br>
              <a:rPr sz="3000"/>
            </a:br>
            <a:br>
              <a:rPr sz="3000"/>
            </a:br>
            <a:r>
              <a:rPr b="0" i="1" lang="en-US" sz="2800" spc="-1" strike="noStrike">
                <a:solidFill>
                  <a:srgbClr val="000000"/>
                </a:solidFill>
                <a:latin typeface="바탕"/>
              </a:rPr>
              <a:t>Desarrollo de un modelo para el diseño de licitaciones aplicado en el ministerio de sal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842920" y="259920"/>
            <a:ext cx="601956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92929"/>
                </a:solidFill>
                <a:latin typeface="Arial"/>
              </a:rPr>
              <a:t>Universidad de Chil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92929"/>
                </a:solidFill>
                <a:latin typeface="Arial"/>
              </a:rPr>
              <a:t>Facultad de Ciencias Físicas y Matemática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92929"/>
                </a:solidFill>
                <a:latin typeface="Arial"/>
              </a:rPr>
              <a:t>Departamento de Ingeniería Industrial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92929"/>
                </a:solidFill>
                <a:latin typeface="Arial"/>
              </a:rPr>
              <a:t>Magíster en gestión de operacion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885080" y="260280"/>
          <a:ext cx="838080" cy="98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85080" y="260280"/>
                    <a:ext cx="83808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4859280" y="4581360"/>
            <a:ext cx="5148360" cy="21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292929"/>
                </a:solidFill>
                <a:uFillTx/>
                <a:latin typeface="Arial"/>
              </a:rPr>
              <a:t>Alumno</a:t>
            </a:r>
            <a:r>
              <a:rPr b="0" lang="es-ES" sz="1600" spc="-1" strike="noStrike">
                <a:solidFill>
                  <a:srgbClr val="292929"/>
                </a:solidFill>
                <a:latin typeface="Arial"/>
              </a:rPr>
              <a:t> :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292929"/>
                </a:solidFill>
                <a:latin typeface="Arial"/>
              </a:rPr>
              <a:t>Matías Pulido Solar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292929"/>
                </a:solidFill>
                <a:uFillTx/>
                <a:latin typeface="Arial"/>
              </a:rPr>
              <a:t>Profesor guía: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292929"/>
                </a:solidFill>
                <a:latin typeface="Arial"/>
              </a:rPr>
              <a:t>Samuel Varas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292929"/>
                </a:solidFill>
                <a:uFillTx/>
                <a:latin typeface="Arial"/>
              </a:rPr>
              <a:t>Fecha: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292929"/>
                </a:solidFill>
                <a:latin typeface="Arial"/>
              </a:rPr>
              <a:t>20-10-04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292929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바탕"/>
              </a:rPr>
              <a:t>Descripción del probl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0840" indent="-420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92929"/>
                </a:solidFill>
                <a:latin typeface="바탕"/>
              </a:rPr>
              <a:t>Licitación actual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35200" indent="-41292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바탕"/>
              </a:rPr>
              <a:t>Horizontes cortos de tiempo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35200" indent="-41292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바탕"/>
              </a:rPr>
              <a:t>Bases no consideran algunos trade off como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16080" indent="-3787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Número de proveedores v/s probabilidad quiebre stock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216080" indent="-3787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Número de proveedores v/s volumen a negoci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216080" indent="-3787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Cantidad a licitar v/s costo stock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35200" indent="-41292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바탕"/>
              </a:rPr>
              <a:t>Modalidad actual provoca pocas ofertas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35200" indent="-41292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바탕"/>
              </a:rPr>
              <a:t>Multas mal dimensionadas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35200" indent="-41292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바탕"/>
              </a:rPr>
              <a:t>No existe un modelo formal de evaluación para la adjudicación (fuera del alcance del tema de tesis)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35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35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바탕"/>
              </a:rPr>
              <a:t>Posibles enfo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바탕"/>
              </a:rPr>
              <a:t>Programación matemátic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Función objetivo que incorpore trade-off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Restricciones a estudi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Considerando información históric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바탕"/>
              </a:rPr>
              <a:t>Benchmarking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Considerando programas similares a nivel internacional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Analizando implicancias de determinados diseños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바탕"/>
              </a:rPr>
              <a:t>Bibliografía consult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“</a:t>
            </a: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Programación entera mejora el proceso de licitación de raciones alimenticias”. Epstein, Henriquez, Catalán, Weintraub y Martinez. Marzo, 2001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“</a:t>
            </a: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The design of auctions and tenders with quality thresholds: The symmetric case”. Martin Cripps, Norman Ireland.1994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“</a:t>
            </a: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Auctions and bidding: A primer”. Paul Milgrom. Journal of Economics perspectives. Volumen 3, Número 3. 1989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Bases administrativas productos PNAC y PACAM, 30 de Abril de 2004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바탕"/>
              </a:rPr>
              <a:t>Carta Gan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regunt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268360" y="3141720"/>
            <a:ext cx="482472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바탕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바탕"/>
              </a:rPr>
              <a:t>Introducció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바탕"/>
              </a:rPr>
              <a:t>Descripción del problem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바탕"/>
              </a:rPr>
              <a:t>Posibles enfoqu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바탕"/>
              </a:rPr>
              <a:t>Bibliografía consultad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바탕"/>
              </a:rPr>
              <a:t>Carta gant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64000" y="1916280"/>
            <a:ext cx="229572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바탕"/>
              </a:rPr>
              <a:t>Intro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바탕"/>
              </a:rPr>
              <a:t>Licitaciones de servicios públicos: una tendencia mundial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바탕"/>
              </a:rPr>
              <a:t>Licitación eficiente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Gana la mejor ofert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Valores privado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Resultados equivalentes sin importar modalidad de licitación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바탕"/>
              </a:rPr>
              <a:t>2 etapas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Diseño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Adjudicació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바탕"/>
              </a:rPr>
              <a:t>Intro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971640" y="1773360"/>
          <a:ext cx="7151760" cy="4573440"/>
        </p:xfrm>
        <a:graphic>
          <a:graphicData uri="http://schemas.openxmlformats.org/drawingml/2006/table">
            <a:tbl>
              <a:tblPr/>
              <a:tblGrid>
                <a:gridCol w="1903320"/>
                <a:gridCol w="2863800"/>
                <a:gridCol w="2384640"/>
              </a:tblGrid>
              <a:tr h="10994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292929"/>
                          </a:solidFill>
                          <a:latin typeface="바탕"/>
                        </a:rPr>
                        <a:t>Etapa</a:t>
                      </a:r>
                      <a:endParaRPr b="0" lang="en-US" sz="2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292929"/>
                          </a:solidFill>
                          <a:latin typeface="바탕"/>
                        </a:rPr>
                        <a:t>Desafíos</a:t>
                      </a:r>
                      <a:endParaRPr b="0" lang="en-US" sz="2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292929"/>
                          </a:solidFill>
                          <a:latin typeface="바탕"/>
                        </a:rPr>
                        <a:t>Características estudios previos realizados</a:t>
                      </a:r>
                      <a:endParaRPr b="0" lang="en-US" sz="2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2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292929"/>
                          </a:solidFill>
                          <a:latin typeface="바탕"/>
                        </a:rPr>
                        <a:t>Diseño</a:t>
                      </a:r>
                      <a:endParaRPr b="0" lang="en-US" sz="2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99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292929"/>
                          </a:solidFill>
                          <a:latin typeface="바탕"/>
                        </a:rPr>
                        <a:t>Bases atractivas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99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292929"/>
                          </a:solidFill>
                          <a:latin typeface="바탕"/>
                        </a:rPr>
                        <a:t>Incentivos a cumplir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99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292929"/>
                          </a:solidFill>
                          <a:latin typeface="바탕"/>
                        </a:rPr>
                        <a:t>Bases orientadas a la        reducción de costos de L.P.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99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292929"/>
                          </a:solidFill>
                          <a:latin typeface="바탕"/>
                        </a:rPr>
                        <a:t>Económicos (teoría de agencia)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99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292929"/>
                          </a:solidFill>
                          <a:latin typeface="바탕"/>
                        </a:rPr>
                        <a:t>Técnicos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123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292929"/>
                          </a:solidFill>
                          <a:latin typeface="바탕"/>
                        </a:rPr>
                        <a:t>Adjudicación</a:t>
                      </a:r>
                      <a:endParaRPr b="0" lang="en-US" sz="2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99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292929"/>
                          </a:solidFill>
                          <a:latin typeface="바탕"/>
                        </a:rPr>
                        <a:t>Asignación proveedor óptimo.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99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292929"/>
                          </a:solidFill>
                          <a:latin typeface="바탕"/>
                        </a:rPr>
                        <a:t>Operaciones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99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292929"/>
                          </a:solidFill>
                          <a:latin typeface="바탕"/>
                        </a:rPr>
                        <a:t>Económicos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99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292929"/>
                          </a:solidFill>
                          <a:latin typeface="바탕"/>
                        </a:rPr>
                        <a:t>Técnicos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바탕"/>
              </a:rPr>
              <a:t>Descripción del probl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751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Licitación de programas de alimentación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바탕"/>
              </a:rPr>
              <a:t>PNAC: Orientado a mujeres embarazadas, nodrizas de bajo peso y niños menores de 6 años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바탕"/>
              </a:rPr>
              <a:t>PACAM: Orientado a adultos mayores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Presupuesto anual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292929"/>
                </a:solidFill>
                <a:latin typeface="바탕"/>
              </a:rPr>
              <a:t>$30,000 millon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바탕"/>
              </a:rPr>
              <a:t>Descripción del probl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4000" y="3068640"/>
            <a:ext cx="1655640" cy="10825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484360" y="3068640"/>
            <a:ext cx="1944720" cy="1276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932360" y="2995560"/>
            <a:ext cx="1206360" cy="14860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979640" y="3571920"/>
            <a:ext cx="288720" cy="216000"/>
          </a:xfrm>
          <a:prstGeom prst="rightArrow">
            <a:avLst>
              <a:gd name="adj1" fmla="val 50000"/>
              <a:gd name="adj2" fmla="val 33417"/>
            </a:avLst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6634080" y="3067200"/>
            <a:ext cx="1216080" cy="12236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7570800" y="2851200"/>
            <a:ext cx="1573200" cy="10000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7929720" y="3859200"/>
            <a:ext cx="849240" cy="11890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300720" y="3571920"/>
            <a:ext cx="289080" cy="216000"/>
          </a:xfrm>
          <a:prstGeom prst="rightArrow">
            <a:avLst>
              <a:gd name="adj1" fmla="val 50000"/>
              <a:gd name="adj2" fmla="val 33458"/>
            </a:avLst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3571920"/>
            <a:ext cx="289080" cy="216000"/>
          </a:xfrm>
          <a:prstGeom prst="rightArrow">
            <a:avLst>
              <a:gd name="adj1" fmla="val 50000"/>
              <a:gd name="adj2" fmla="val 33458"/>
            </a:avLst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602400" y="5300640"/>
            <a:ext cx="25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1.100.000 beneficiario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03960" y="4651200"/>
            <a:ext cx="22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481 Consultorio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1161 Postas rurales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59640" y="1700280"/>
            <a:ext cx="26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92929"/>
                </a:solidFill>
                <a:latin typeface="바탕"/>
              </a:rPr>
              <a:t>Cadena logístic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바탕"/>
              </a:rPr>
              <a:t>Descripción del probl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743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바탕"/>
              </a:rPr>
              <a:t>Productos entregados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PNAC: Leche fortificada, leche cereal y sopa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PACAM: Sopa crema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042920" y="3213000"/>
          <a:ext cx="6769080" cy="3390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3213000"/>
                    <a:ext cx="6769080" cy="33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바탕"/>
              </a:rPr>
              <a:t>Descripción del probl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765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Importancia del rol de proveedores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바탕"/>
              </a:rPr>
              <a:t>Social: Gravedad de quiebres de stock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바탕"/>
              </a:rPr>
              <a:t>Económico: Importancia en estructura de costos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187280" y="3095640"/>
            <a:ext cx="6481800" cy="37623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676120" y="3789360"/>
            <a:ext cx="3465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Se licita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$27,000 millones!!!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바탕"/>
              </a:rPr>
              <a:t>Descripción del probl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바탕"/>
              </a:rPr>
              <a:t>Licitación actual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lnSpc>
                <a:spcPct val="10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Se licita mediante 2 modalidades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바탕"/>
              </a:rPr>
              <a:t>Distribución directa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바탕"/>
              </a:rPr>
              <a:t>Distribución por CENABAST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lnSpc>
                <a:spcPct val="10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División geográfica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바탕"/>
              </a:rPr>
              <a:t>Distribución directa: 4 zonas independientes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바탕"/>
              </a:rPr>
              <a:t>Distribución por CENABAST: No existe división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lnSpc>
                <a:spcPct val="10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Adjudicación: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바탕"/>
              </a:rPr>
              <a:t>Comisión decida cualitativamente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바탕"/>
              </a:rPr>
              <a:t>Se considera principalmente precio y comportamiento anterior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바탕"/>
              </a:rPr>
              <a:t>Se adjudica modalidad más conveniente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5:20:33Z</dcterms:created>
  <dc:creator>Juan Pablo Torres</dc:creator>
  <dc:description/>
  <dc:language>en-US</dc:language>
  <cp:lastModifiedBy>julie lagos</cp:lastModifiedBy>
  <dcterms:modified xsi:type="dcterms:W3CDTF">2004-10-22T14:10:31Z</dcterms:modified>
  <cp:revision>51</cp:revision>
  <dc:subject/>
  <dc:title>Diapositiva 1</dc:title>
</cp:coreProperties>
</file>